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E48-4E2A-4B6C-B963-99CDA551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7252-C99B-444C-A846-CAA58335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7274-8260-4846-8578-4112BEFB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CE70-E42C-4A76-93F3-25D2CD22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0533-F440-4D17-A5AA-23943D8A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ED9-7EC1-4C70-B370-FF73F58F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8E19-067F-43D9-B293-ED765B8F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F8B9-E1B6-4D23-8D89-87325FB9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6BBD-B19D-43A3-9D82-91F637CE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91D4-5C2B-43F7-8CA5-985C8C24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6C3C-15EA-4717-93DF-446A3412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32E0-8AE2-4559-9720-63023613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9230-265E-467D-ABA7-028290BE8E6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8901" t="0" r="-313" b="0"/>
          <a:stretch/>
        </p:blipFill>
        <p:spPr>
          <a:xfrm>
            <a:off x="179280" y="187200"/>
            <a:ext cx="8785440" cy="661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903000" y="6165720"/>
            <a:ext cx="156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CD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-480" t="40994" r="81352" b="6000"/>
          <a:stretch/>
        </p:blipFill>
        <p:spPr>
          <a:xfrm>
            <a:off x="900000" y="333360"/>
            <a:ext cx="7417080" cy="626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1360" y="260280"/>
            <a:ext cx="481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La table paramètres englobera toutes les tables de paramét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-753" t="0" r="-3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00760" y="4302000"/>
            <a:ext cx="18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PD_CakePHP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08:18:05Z</dcterms:created>
  <dc:creator>ANTHONY SCHLEMER</dc:creator>
  <dc:description/>
  <dc:language>en-US</dc:language>
  <cp:lastModifiedBy>ANTHONY SCHLEMER</cp:lastModifiedBy>
  <dcterms:modified xsi:type="dcterms:W3CDTF">2007-07-03T09:22:53Z</dcterms:modified>
  <cp:revision>10</cp:revision>
  <dc:subject/>
  <dc:title>Diapositive 1</dc:title>
</cp:coreProperties>
</file>